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E0D-8528-4F74-8468-A7920A98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B1F-CF21-4C42-B449-F54D47E7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8F7-4D9C-4D14-9574-6B008AF4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F4E-32E7-4941-A749-B7A8FFC8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6CC-FF4D-45FD-A45E-B3681AA8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851-D406-4551-82D4-CBCDA01E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B45-81CA-4D0A-B89E-85A206B9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6ED-6C8F-47E7-925A-70CDEA8F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501-EE49-4691-848B-74EBB874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4B7-0EBE-4EC1-934D-E7E74BFB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547-FB29-41C0-B820-C4AEF44D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28D-F599-429B-996E-8EAE39A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1EF8-AA42-479C-9F3A-0734C9517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and Marriage in the Unit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735800">
            <a:off x="0" y="0"/>
            <a:ext cx="222552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3321000"/>
            <a:ext cx="40384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have traditionally denied the existence of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st, was associated with low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5638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use Against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conception that men are the ones to abuse sp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and Women abuse each other at almost an identical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bal and Psychological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or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 someone is worthless, stupi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evelop a sense of self-worth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bling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form of family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lousy, disagreements, rival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978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8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e of the American Family (Tre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- lineage and inheritance sh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tic- both are part of decision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ga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 Love and M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hings go “hand and h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mericans believe love is most important part of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Pres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90% of all adults get ma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iage and Div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Rate: number of marriages per year for every one thousand members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 the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orce Rate: number of divorces per year for every one thousand members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 the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auses of Divo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the age upon marriage, more likely to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Years Mar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you are married, less likely to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spect for each other and flexibility, lower chance of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orc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orce rates rise during economic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 fall when economy i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-Boomer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a different opinion about divorce than earlier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35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orc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inancial Independence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are earning more money than before, can b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ikely to leave ba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erican Values and Attitudes are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4:08:49Z</dcterms:created>
  <dc:creator>johnson.scott</dc:creator>
  <dc:description/>
  <dc:language>en-US</dc:language>
  <cp:lastModifiedBy>johnson.scott</cp:lastModifiedBy>
  <dcterms:modified xsi:type="dcterms:W3CDTF">2008-05-01T14:50:37Z</dcterms:modified>
  <cp:revision>3</cp:revision>
  <dc:subject/>
  <dc:title>Family and Marriage in the United States</dc:title>
</cp:coreProperties>
</file>