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07F-73B1-43AA-884A-0F6225B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441-E0F3-49C6-A2FF-AD21CFB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6DF-770A-4928-99CC-5A75F556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9C8-C95F-4657-AD79-11266E9E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11-E01F-444E-9C02-00F910D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051-A1B6-43E1-901C-230DCE8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864-E261-452E-B226-3DA894C8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4DE-21BA-4252-AF9F-2375644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243-9CB7-463F-BF73-63A66BD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9C1-32A4-4A19-B7DD-D4A52688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D3D-839A-44DC-904E-AB4FDAB9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B90-843E-4ADA-B046-D114D59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91A-4E79-482D-9175-774F002D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nd Marriage in 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735800">
            <a:off x="0" y="0"/>
            <a:ext cx="222552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3321000"/>
            <a:ext cx="40384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ve traditionally denied the existence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st, was associated with low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5638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e Against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 that men are the ones to abuse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nd Women abuse each other at almost an identic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bal and Psychological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 someone is worthless, stupi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velop a sense of self-worth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ling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form of family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, disagreements, rival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e of the American Family (Tre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- lineage and inheritanc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- both are part of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 Love and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ings go “hand and h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believe love is most important part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90% of all adults get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Rate: number of marriag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Rate: number of divorces per year for every one thousand members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 th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auses of Div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he age upon marriage, more likely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Years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you are married, less likely to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 for each other and flexibility, lower chance of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rates rise during economic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fall when economy i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-Boom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a different opinion about divorce than earli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orc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inancial Independence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earning more money than before, can b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leave ba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erican Values and Attitudes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08:49Z</dcterms:created>
  <dc:creator>johnson.scott</dc:creator>
  <dc:description/>
  <dc:language>en-US</dc:language>
  <cp:lastModifiedBy>johnson.scott</cp:lastModifiedBy>
  <dcterms:modified xsi:type="dcterms:W3CDTF">2008-05-01T14:50:37Z</dcterms:modified>
  <cp:revision>3</cp:revision>
  <dc:subject/>
  <dc:title>Family and Marriage in the United States</dc:title>
</cp:coreProperties>
</file>