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A07-DEA3-43EA-9F5C-A2F10874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316-F04C-4C49-9092-C5F53DFE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974-7626-442A-B22D-60683811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5A9-5FD6-42B3-9D23-479455E8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E63-B96E-45A4-85AA-E30FCBC2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35A-E31F-4C62-88B2-B113FEA7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04E-DF37-4931-84C2-31BDCD08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ECD-3C29-4595-B519-33B371BB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068-87E1-441A-85BD-8ACD01EF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0BB-0507-4596-825A-5BBA2A4C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A97-C640-43AB-8844-83ADF649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01D-07F9-4B0C-ACF8-A2E9A091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3F97-509C-4A6E-BCC3-61EDB0A00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and Marriage in the Unit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9735800">
            <a:off x="0" y="0"/>
            <a:ext cx="222552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05520" y="3321000"/>
            <a:ext cx="40384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have traditionally denied the existence of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st, was associated with low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agai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5638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use Against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conception that men are the ones to abuse sp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and Women abuse each other at almost an identical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bal and Psychological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or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ing someone is worthless, stupi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evelop a sense of self-worth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bling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form of family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lousy, disagreements, rival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978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8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e of the American Family (Tre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- lineage and inheritance sh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tic- both are part of decision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ga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 Love and Marri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hings go “hand and h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mericans believe love is most important part of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Pres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90% of all adults get ma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iage and Div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Rate: number of marriages per year for every one thousand members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 the de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orce Rate: number of divorces per year for every one thousand members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 the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auses of Divo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the age upon marriage, more likely to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Years Mar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you are married, less likely to div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spect for each other and flexibility, lower chance of div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orc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orce rates rise during economic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 fall when economy i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-Boomer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a different opinion about divorce than earlier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35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orc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inancial Independence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are earning more money than before, can b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ikely to leave ba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erican Values and Attitudes are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4:08:49Z</dcterms:created>
  <dc:creator>johnson.scott</dc:creator>
  <dc:description/>
  <dc:language>en-US</dc:language>
  <cp:lastModifiedBy>johnson.scott</cp:lastModifiedBy>
  <dcterms:modified xsi:type="dcterms:W3CDTF">2008-05-01T14:50:37Z</dcterms:modified>
  <cp:revision>3</cp:revision>
  <dc:subject/>
  <dc:title>Family and Marriage in the United States</dc:title>
</cp:coreProperties>
</file>