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66C6-0CD6-4047-86AD-73053020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5980-3CEF-47C6-985A-5B53C2D4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AE90-A1BE-42F5-8916-DA7241B3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9F93-9150-4515-8112-AFFE66637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10CE-10B1-42F0-95AE-A4E5C115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4AE7-4915-40A8-9509-BB83CF1C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73C3-1F66-4E03-BAB8-821F07D4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0B4A-0BB6-4330-ACD3-788784DB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3CAD-1250-424C-A7B3-404991C1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967A-7ED7-4B1C-96CC-5E073E85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1F63-4785-4EEB-A96F-5DADC99E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E10D-471D-4F8A-8EE3-E940B67C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A109-D4AD-4373-A04F-60FE8CAE1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and Marriage in the United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1 Sect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19735800">
            <a:off x="0" y="0"/>
            <a:ext cx="2225520" cy="2057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105520" y="3321000"/>
            <a:ext cx="403848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Vio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s have traditionally denied the existence of vio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st, was associated with lower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use again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bl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505320" y="3276720"/>
            <a:ext cx="56386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use Against W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95680" y="1447920"/>
            <a:ext cx="4648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conception that men are the ones to abuse sp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 and Women abuse each other at almost an identical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4572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bal and Psychological Ab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gnoring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ing someone is worthless, stupid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develop a sense of self-worthless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3733920"/>
            <a:ext cx="9144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bling Vio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mmon form of family vio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alousy, disagreements, rival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4978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3581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ure of the American Family (Trend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60" y="233208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ar Fami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ateral- lineage and inheritance sh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cratic- both are part of decision m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o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ogam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03848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antic Love and Marri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things go “hand and han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mericans believe love is most important part of marri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er Press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90% of all adults get marr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4343400"/>
            <a:ext cx="9144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riage and Div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riage Rate: number of marriages per year for every one thousand members of the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on the dec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orce Rate: number of divorces per year for every one thousand members of the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on the r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Causes of Divor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the age upon marriage, more likely to succ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of Years Marr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er you are married, less likely to div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of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respect for each other and flexibility, lower chance of div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orc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5715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orce rates rise during economic prospe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s fall when economy is 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by-Boomer 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d a different opinion about divorce than earlier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638680" y="1219320"/>
            <a:ext cx="35053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orc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Financial Independence of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 are earning more money than before, can be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likely to leave bad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American Values and Attitudes are Cha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4:08:49Z</dcterms:created>
  <dc:creator>johnson.scott</dc:creator>
  <dc:description/>
  <dc:language>en-US</dc:language>
  <cp:lastModifiedBy>johnson.scott</cp:lastModifiedBy>
  <dcterms:modified xsi:type="dcterms:W3CDTF">2008-05-01T14:50:37Z</dcterms:modified>
  <cp:revision>3</cp:revision>
  <dc:subject/>
  <dc:title>Family and Marriage in the United States</dc:title>
</cp:coreProperties>
</file>